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D33E-971A-4432-98C2-F559B420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83A-FB21-44F6-81F6-C655D100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21B-13D6-4412-919A-0E7E5220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AF53-E48A-4FCF-A437-F80F7218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FB024-A499-4C9A-A7B9-924F3139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BD3D4-AD05-4F7F-B8E4-C729F4D4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9DECA-ECBC-475F-A528-3AD9BC63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DFBD6-5BF2-47B5-90AA-86C6F3D0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A0EA3-0CA4-4AF8-85C6-0348E196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9D142-B66D-4676-8115-BACF7080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CEE2C-BEE2-416C-BA50-16061639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BBD-3165-4C95-B4E5-A37DA7FA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D7E49-74FF-4AF6-AA5F-364361F7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0776D-63B5-47A5-A7EB-26EB4B65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94316-019F-470B-B898-DF47E75A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1D1CF-5619-4B34-9B4F-11F845CA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D0908-72F3-410A-9B86-78F5E4C6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3827-C1A1-4BB4-A43F-D317F61A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B80-74C0-402F-B8D1-E973874E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F560-B48B-4066-8BBE-D6CEDA10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E2A-C5B8-4A7F-8DB4-BCB58001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BD49-E253-49CF-9B39-8868B0E4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1EFD-A519-4F30-B4E1-E7ACE648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FEE3-4C6A-442B-8EF8-77CE430F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1DCE-B84B-442D-B64A-0B38C34025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9422-D1DE-4FB3-A936-EB5E0098F5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dri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cary Hallow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t looked like an ordinary pumpkin but it wasn’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were millions of ghosts inside and on Halloween all of them will come o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038480" y="990720"/>
            <a:ext cx="144792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971800" y="2971800"/>
            <a:ext cx="14986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4648320" y="3276720"/>
          <a:ext cx="304560" cy="30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3276720"/>
                    <a:ext cx="304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d wake up the zombie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the vampires and all of them will haunt yo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086600" y="228600"/>
            <a:ext cx="1600200" cy="1447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83908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124080" y="2666880"/>
            <a:ext cx="1967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54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t if you dress up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scare the ghost away and if you carve a pumpk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1803600" cy="1805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038480" y="2514600"/>
            <a:ext cx="10670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d put it on your porch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vampires will go away and if you pull of the zombies legs and throw him back in his grave the will never come ba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End HA! HA! HA 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6:11:19Z</dcterms:created>
  <dc:creator>student</dc:creator>
  <dc:description/>
  <dc:language>en-US</dc:language>
  <cp:lastModifiedBy>student</cp:lastModifiedBy>
  <dcterms:modified xsi:type="dcterms:W3CDTF">2010-10-25T18:24:00Z</dcterms:modified>
  <cp:revision>12</cp:revision>
  <dc:subject/>
  <dc:title>Adrian</dc:title>
</cp:coreProperties>
</file>